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87F76-861E-447E-A74E-7259FC2D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DE94-1C2F-4616-95A8-BC60422B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619C1-7CF9-40DF-BE99-B5F8C4578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D5786-402F-4D80-B419-E6804DCC0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66EA4-558F-466B-9732-0E41450E7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4073D-3B38-4CAD-9D78-12A0E66EC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2B37E-4F0B-40AD-B654-98BAB972A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EE891-F93C-42C4-92F6-AF20BF0E8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99F13-74D8-4481-ACFF-F3494BE5F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26D3D-D56D-4C82-B107-BAF280D36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9049-23B5-4D2B-8630-3F4761FBE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873D-75F2-41BC-9A7A-83402B9D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037C4-06B1-4BE6-8C3F-7F0B811CE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6CB61-BD19-46DB-83B6-2B03D45F0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CC44A-2B9C-4365-99E7-BD87EAA24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4A92F-0086-4BEB-B433-A23EB4036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BFC4E-1266-4E69-A33F-0D6D5CE5E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9A6E8-BAB5-4161-8D84-634E08ACB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1B4AB-9D08-4214-9F81-84D951F5D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81879-B1ED-403A-9BCD-1D3364792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29B1A-C1AA-4E37-BE98-8DFDD46C7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9226F-A158-46ED-8AE9-2CCA1404F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33E6-BD8B-4AD3-B1E9-44F521BE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12E4E-BDE4-44AA-B7C2-77A43DE0C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CC02B-A6F0-481D-8521-8265C6085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15B80-3423-49CA-8417-2DF2C4DB9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DBDF7-4A74-4C53-BE93-F9E8CD73C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B5BB38-B098-4ABE-A597-2A1DF33A2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7A15B-D164-420F-915F-C3F5C3E938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46D58-6D06-4E16-BA6A-FF25C849E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CD5F69-53B2-4E4E-BCCD-4FC1B65CB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405B4-5F2E-4D1D-B079-F3AFF42BF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79B40-3163-44C2-87DA-C9675B358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A46AD-D4B3-45C0-9B3A-768BB32E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00BFC8-41E3-413D-ACDA-B9C9EAC05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FC747-9146-4436-9C76-70327CCD7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AA37B-54D2-4639-8546-D4F28C360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30FA2-C256-461F-ADAE-2E79A581A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67082-D298-4E01-BB2E-026A6D533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2A17B-DA4D-4722-B803-E399DACCA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97602-639D-467F-B49C-D6E18676B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87CF9C-FB47-49B7-8C4B-C99C382101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5FA02-9BAA-4F82-A43A-1E7F61CC64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AE4581-5B99-4FB7-A8A4-CD24E8A5EE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AD098-83C4-469D-94FE-715DA1CC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C72B3-5035-4FDD-BFAD-59F8701D9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C9C56-A68E-4652-AF7D-C85DED31F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F94FF4-37D3-4227-A44B-38C016DF9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A8870-F6CE-4229-9752-E76FCF460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A78B3-224F-4C4F-8ADB-4E5501C18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D2BBF-825C-4C05-A131-AF1D827C3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A2474-A6EC-4430-AFD3-EC53F5A66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0E387-3E9B-46C0-8C67-B01DA0E87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83E0E5-02F5-4455-93DE-BD38A55D8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B2F79-B895-4433-AB8D-4C5D8C0AE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3025-74FF-4323-8C2D-9CE83FAA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C7DC67-3288-45D4-8037-59618C56CF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36A3A-3D91-4EEE-AD68-0C8BACAD9A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607F4-793E-40D8-8FE5-E9B7A0B7D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B1D74-CA73-4E77-B252-6A440DF177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A7F15-F9B4-45AA-917D-451C53E77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669BC-B791-4FAA-8458-9697022DE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42166-55FC-43EF-BA20-10B3EB50A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89FEE-E895-442D-8BB0-BBA5F67E3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02B51-B1AF-434D-B398-684EB0E3F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61BA6-7458-4381-A603-73B9F543C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CA71E-B6FF-4082-ABB4-72E6D685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4B1EB-1AB6-4D4A-B49C-BF87F43F3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FF56BE-1130-476B-968C-1C606F3664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2132B0-8123-4263-BD77-4D30C69898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3744F-2E72-498C-BD7C-E5CBD033E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EFD71-A83D-43D9-8F03-F9F66C573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A61DB-663F-4CAA-845D-315C1082D0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3A0C1-5001-40FF-9788-8197D6531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089C2-A3D2-4781-BBAA-DEAA8721E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C0F3A-82F7-4CAF-A0E9-F73DEAEBE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A6EA8-9C30-4B53-8C32-DDCAEE685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A961-16D3-4389-95B4-FD720E49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4AE68-D392-4609-AF2A-AD09A2B05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67E78-9CE5-41AD-A3D1-61F5F3E26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6A24E-9B8A-4B74-A76D-F356F1076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A3BEA-7336-4226-9433-1C9DA62C6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61B118-7986-4E30-8F33-6A389315A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98BC7-2EB9-421F-A5C6-5BEBB0F02E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6A612-3F88-4278-9902-C511767D8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696D97-A042-47CA-A383-3D60BEE2B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600E2-E054-4CE0-A15B-450EF5576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07C37-A470-41E0-B7CD-DB729363A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5C63-57E7-452A-AA02-9C527D9BE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1F72E-881A-428F-9089-7D72BE620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B884C-3076-4891-948D-A9A31AC69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A9179-D4ED-49C3-A41F-348D608E6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35FCE-7B38-4621-990B-14B68493C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A2F5C-1CBC-4544-AA3D-AAADBC80E6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DEE66-12E3-46D5-BF60-DB7B4E0F5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AC780D-65E3-4E6F-9062-3BC8B4BBA7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82BD3-B518-498F-8471-00EBA626122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D8FF3-F038-4E12-95DF-8005A33BA6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A5B0D-D4C7-4827-9852-CF1B72682CDF}"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8772F-2754-4C8D-A71E-EF6D80F4C72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CE304-9927-4435-BEBA-8DB5B0731743}"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D5BA6-C641-4DF4-9954-332D32EF70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5220D-1E90-4F84-B2DE-6CA54482B638}"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F1E8A-877F-404B-A21D-7C42767EFA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5514A-A555-4EB5-BA81-E813C799B66C}"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FB299-B996-48D6-A084-ADAF28F0DE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51D43-698C-43A9-8629-83F17CE4FD28}"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06165-06A5-47C2-B156-AA567F8FB8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27D1A-3C6F-4065-83AB-789FB0DC1B1D}"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12BB9-3337-4275-B6E6-9DD91001C2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9BB92-5819-44ED-BE2B-BCF1C51F5777}"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57148-41DB-4AFD-B822-AA11E16DAD3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The process in which cells use oxygen to burn sugar for fue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218960"/>
            <a:ext cx="8229600" cy="4787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number of gas molecules and the temperature remain constant, then the pressure is inversely proportional to the volum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temperature changes and the number of gas molecules is kept constant, then either the pressure or volume (or both) will change in direct proportion to the temperatur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ases and fluids flow from regions of high pressure to regions of low pressure.</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0720" y="-6480"/>
            <a:ext cx="824256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Equation aga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a:t>
            </a:r>
            <a:r>
              <a:rPr b="0" lang="en-US" sz="2000" spc="-1" strike="noStrike">
                <a:solidFill>
                  <a:srgbClr val="000000"/>
                </a:solidFill>
                <a:latin typeface="Lucida Sans Unicode"/>
              </a:rPr>
              <a:t>6</a:t>
            </a:r>
            <a:r>
              <a:rPr b="0" lang="en-US" sz="2700" spc="-1" strike="noStrike">
                <a:solidFill>
                  <a:srgbClr val="000000"/>
                </a:solidFill>
                <a:latin typeface="Lucida Sans Unicode"/>
              </a:rPr>
              <a:t>H</a:t>
            </a:r>
            <a:r>
              <a:rPr b="0" lang="en-US" sz="2000" spc="-1" strike="noStrike">
                <a:solidFill>
                  <a:srgbClr val="000000"/>
                </a:solidFill>
                <a:latin typeface="Lucida Sans Unicode"/>
              </a:rPr>
              <a:t>12</a:t>
            </a:r>
            <a:r>
              <a:rPr b="0" lang="en-US" sz="2700" spc="-1" strike="noStrike">
                <a:solidFill>
                  <a:srgbClr val="000000"/>
                </a:solidFill>
                <a:latin typeface="Lucida Sans Unicode"/>
              </a:rPr>
              <a:t>O</a:t>
            </a:r>
            <a:r>
              <a:rPr b="0" lang="en-US" sz="2000" spc="-1" strike="noStrike">
                <a:solidFill>
                  <a:srgbClr val="000000"/>
                </a:solidFill>
                <a:latin typeface="Lucida Sans Unicode"/>
              </a:rPr>
              <a:t>6</a:t>
            </a:r>
            <a:r>
              <a:rPr b="0" lang="en-US" sz="2700" spc="-1" strike="noStrike">
                <a:solidFill>
                  <a:srgbClr val="000000"/>
                </a:solidFill>
                <a:latin typeface="Lucida Sans Unicode"/>
              </a:rPr>
              <a:t>  +  </a:t>
            </a:r>
            <a:r>
              <a:rPr b="0" lang="en-US" sz="2700" spc="-1" strike="noStrike" u="sng">
                <a:solidFill>
                  <a:srgbClr val="000000"/>
                </a:solidFill>
                <a:uFillTx/>
                <a:latin typeface="Lucida Sans Unicode"/>
              </a:rPr>
              <a:t>6</a:t>
            </a:r>
            <a:r>
              <a:rPr b="0" lang="en-US" sz="2700" spc="-1" strike="noStrike">
                <a:solidFill>
                  <a:srgbClr val="000000"/>
                </a:solidFill>
                <a:latin typeface="Lucida Sans Unicode"/>
              </a:rPr>
              <a:t>O</a:t>
            </a:r>
            <a:r>
              <a:rPr b="0" lang="en-US" sz="2000" spc="-1" strike="noStrike">
                <a:solidFill>
                  <a:srgbClr val="000000"/>
                </a:solidFill>
                <a:latin typeface="Lucida Sans Unicode"/>
              </a:rPr>
              <a:t>2</a:t>
            </a:r>
            <a:r>
              <a:rPr b="0" lang="en-US" sz="2700" spc="-1" strike="noStrike">
                <a:solidFill>
                  <a:srgbClr val="000000"/>
                </a:solidFill>
                <a:latin typeface="Lucida Sans Unicode"/>
              </a:rPr>
              <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t>
            </a:r>
            <a:r>
              <a:rPr b="0" lang="en-US" sz="2700" spc="-1" strike="noStrike" u="sng">
                <a:solidFill>
                  <a:srgbClr val="000000"/>
                </a:solidFill>
                <a:uFillTx/>
                <a:latin typeface="Lucida Sans Unicode"/>
              </a:rPr>
              <a:t>6</a:t>
            </a:r>
            <a:r>
              <a:rPr b="0" lang="en-US" sz="2700" spc="-1" strike="noStrike">
                <a:solidFill>
                  <a:srgbClr val="000000"/>
                </a:solidFill>
                <a:latin typeface="Lucida Sans Unicode"/>
              </a:rPr>
              <a:t>CO</a:t>
            </a:r>
            <a:r>
              <a:rPr b="0" lang="en-US" sz="2000" spc="-1" strike="noStrike">
                <a:solidFill>
                  <a:srgbClr val="000000"/>
                </a:solidFill>
                <a:latin typeface="Lucida Sans Unicode"/>
              </a:rPr>
              <a:t>2</a:t>
            </a:r>
            <a:r>
              <a:rPr b="0" lang="en-US" sz="2700" spc="-1" strike="noStrike">
                <a:solidFill>
                  <a:srgbClr val="000000"/>
                </a:solidFill>
                <a:latin typeface="Lucida Sans Unicode"/>
              </a:rPr>
              <a:t> + 6H</a:t>
            </a:r>
            <a:r>
              <a:rPr b="0" lang="en-US" sz="2000" spc="-1" strike="noStrike">
                <a:solidFill>
                  <a:srgbClr val="000000"/>
                </a:solidFill>
                <a:latin typeface="Lucida Sans Unicode"/>
              </a:rPr>
              <a:t>2</a:t>
            </a:r>
            <a:r>
              <a:rPr b="0" lang="en-US" sz="2700" spc="-1" strike="noStrike">
                <a:solidFill>
                  <a:srgbClr val="000000"/>
                </a:solidFill>
                <a:latin typeface="Lucida Sans Unicode"/>
              </a:rPr>
              <a:t>O + 36AT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6 molecules of oxygen react and 6 molecules of carbon dioxide are produced – this is a problem, because we only want to measure amount of oxygen used by the pea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will use a chemical called potassium hydroxide (KOH) to convert carbon dioxide gas to a solid precipitate (K</a:t>
            </a:r>
            <a:r>
              <a:rPr b="0" lang="en-US" sz="2000" spc="-1" strike="noStrike">
                <a:solidFill>
                  <a:srgbClr val="000000"/>
                </a:solidFill>
                <a:latin typeface="Lucida Sans Unicode"/>
              </a:rPr>
              <a:t>2</a:t>
            </a:r>
            <a:r>
              <a:rPr b="0" lang="en-US" sz="2700" spc="-1" strike="noStrike">
                <a:solidFill>
                  <a:srgbClr val="000000"/>
                </a:solidFill>
                <a:latin typeface="Lucida Sans Unicode"/>
              </a:rPr>
              <a:t>CO</a:t>
            </a:r>
            <a:r>
              <a:rPr b="0" lang="en-US" sz="2000" spc="-1" strike="noStrike">
                <a:solidFill>
                  <a:srgbClr val="000000"/>
                </a:solidFill>
                <a:latin typeface="Lucida Sans Unicode"/>
              </a:rPr>
              <a:t>3</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his removes the gas produced &amp; ensures that we are only measuring oxygen consumed by the p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DANGER:  WEAR GOGGLES &amp; DO NOT GE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ff0000"/>
                </a:solidFill>
                <a:latin typeface="Lucida Sans Unicode"/>
              </a:rPr>
              <a:t>KOH ON YOUR SKIN!</a:t>
            </a: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tassium hydroxide (KOH), otherwise known as caustic potash, is used in making soaps, detergents, potassium carbonate and other potassium chemicals.</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s 1 – 3 will be placed in room temperature wat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s 4 – 6 will be placed in ice wat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lab group will be assigned to one temperature and will set up 3 respirometers</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ds are dormant stages of living organisms, and contain embryo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 1 will contain germinating pea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pirometer 2 will contain dry peas + glass beads </a:t>
            </a:r>
            <a:r>
              <a:rPr b="0" lang="en-US" sz="2700" spc="-1" strike="noStrike">
                <a:solidFill>
                  <a:srgbClr val="0000ff"/>
                </a:solidFill>
                <a:latin typeface="Lucida Sans Unicode"/>
              </a:rPr>
              <a:t>(why add glass bea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 3 will contain glass beads onl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necessary to keep the temperature within the respirometer stable so the enclosed gas does not expand or contract as in a thermometer.</a:t>
            </a:r>
            <a:endParaRPr b="0" lang="en-US" sz="2700" spc="-1" strike="noStrike">
              <a:solidFill>
                <a:srgbClr val="000000"/>
              </a:solidFill>
              <a:latin typeface="Lucida Sans Unicode"/>
            </a:endParaRPr>
          </a:p>
        </p:txBody>
      </p:sp>
      <p:pic>
        <p:nvPicPr>
          <p:cNvPr id="4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bernation is a form of adaptation where an animal’s respiration slows down to very low levels in response to cold temperatures.  Common hibernators include woodchucks, hedgehogs, and shrews.  Less commonly known are bats, whose respiration slows from eight breaths per second to eight breaths per minute during hibern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838080"/>
            <a:ext cx="8229600" cy="51688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 Read through entire procedu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hite portion of pack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 You will work with your fermentation lab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artners on this lab – try to answer th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lue pre-lab questions (1 – 10) with you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artner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 Make corrections as needed when we go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over the pre-lab question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 Be prepared to set up the lab and collec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ata on Wednesda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450720" y="-6480"/>
            <a:ext cx="8242560" cy="9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word aerobic means “requiring air” but the only important component of air, as far as respiration is concerned, is the gas oxygen, which makes up approximately 20% of the tot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will measure the amount of oxygen taken in by dry peas and germinating peas during respiration at two different temperature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respirometer is an apparatus for measuring the amounts of gases used during respiration.</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143000"/>
            <a:ext cx="8229600" cy="5486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 the gas laws as they apply to the function of a respiromet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pret data related to the effects of temperature on cell respir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pret data related to the effects of germination or non-germination on cell respir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ain or determine the significance of a contro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ain the relationship between dependent &amp; independent variab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lculate a rate of cell respiration by utilizing graphed data</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6480"/>
            <a:ext cx="892512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t>
            </a:r>
            <a:r>
              <a:rPr b="0" lang="en-US" sz="2000" spc="-1" strike="noStrike">
                <a:solidFill>
                  <a:srgbClr val="000000"/>
                </a:solidFill>
                <a:latin typeface="Lucida Sans Unicode"/>
              </a:rPr>
              <a:t>6</a:t>
            </a:r>
            <a:r>
              <a:rPr b="0" lang="en-US" sz="2700" spc="-1" strike="noStrike">
                <a:solidFill>
                  <a:srgbClr val="000000"/>
                </a:solidFill>
                <a:latin typeface="Lucida Sans Unicode"/>
              </a:rPr>
              <a:t>H</a:t>
            </a:r>
            <a:r>
              <a:rPr b="0" lang="en-US" sz="2000" spc="-1" strike="noStrike">
                <a:solidFill>
                  <a:srgbClr val="000000"/>
                </a:solidFill>
                <a:latin typeface="Lucida Sans Unicode"/>
              </a:rPr>
              <a:t>12</a:t>
            </a:r>
            <a:r>
              <a:rPr b="0" lang="en-US" sz="2700" spc="-1" strike="noStrike">
                <a:solidFill>
                  <a:srgbClr val="000000"/>
                </a:solidFill>
                <a:latin typeface="Lucida Sans Unicode"/>
              </a:rPr>
              <a:t>O</a:t>
            </a:r>
            <a:r>
              <a:rPr b="0" lang="en-US" sz="2000" spc="-1" strike="noStrike">
                <a:solidFill>
                  <a:srgbClr val="000000"/>
                </a:solidFill>
                <a:latin typeface="Lucida Sans Unicode"/>
              </a:rPr>
              <a:t>6</a:t>
            </a:r>
            <a:r>
              <a:rPr b="0" lang="en-US" sz="2700" spc="-1" strike="noStrike">
                <a:solidFill>
                  <a:srgbClr val="000000"/>
                </a:solidFill>
                <a:latin typeface="Lucida Sans Unicode"/>
              </a:rPr>
              <a:t>  +  6O</a:t>
            </a:r>
            <a:r>
              <a:rPr b="0" lang="en-US" sz="2000" spc="-1" strike="noStrike">
                <a:solidFill>
                  <a:srgbClr val="000000"/>
                </a:solidFill>
                <a:latin typeface="Lucida Sans Unicode"/>
              </a:rPr>
              <a:t>2</a:t>
            </a:r>
            <a:r>
              <a:rPr b="0" lang="en-US" sz="2700" spc="-1" strike="noStrike">
                <a:solidFill>
                  <a:srgbClr val="000000"/>
                </a:solidFill>
                <a:latin typeface="Lucida Sans Unicode"/>
              </a:rPr>
              <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6CO</a:t>
            </a:r>
            <a:r>
              <a:rPr b="0" lang="en-US" sz="2000" spc="-1" strike="noStrike">
                <a:solidFill>
                  <a:srgbClr val="000000"/>
                </a:solidFill>
                <a:latin typeface="Lucida Sans Unicode"/>
              </a:rPr>
              <a:t>2</a:t>
            </a:r>
            <a:r>
              <a:rPr b="0" lang="en-US" sz="2700" spc="-1" strike="noStrike">
                <a:solidFill>
                  <a:srgbClr val="000000"/>
                </a:solidFill>
                <a:latin typeface="Lucida Sans Unicode"/>
              </a:rPr>
              <a:t> + 6H</a:t>
            </a:r>
            <a:r>
              <a:rPr b="0" lang="en-US" sz="2000" spc="-1" strike="noStrike">
                <a:solidFill>
                  <a:srgbClr val="000000"/>
                </a:solidFill>
                <a:latin typeface="Lucida Sans Unicode"/>
              </a:rPr>
              <a:t>2</a:t>
            </a:r>
            <a:r>
              <a:rPr b="0" lang="en-US" sz="2700" spc="-1" strike="noStrike">
                <a:solidFill>
                  <a:srgbClr val="000000"/>
                </a:solidFill>
                <a:latin typeface="Lucida Sans Unicode"/>
              </a:rPr>
              <a:t>O + 36AT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lucose + Oxygen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Carbon Dioxide + Water + Energy (ATP)</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ruit-ripening process may be greatly slowed down by using cold storage methods (refrigeration), which reduces the respiration rate of fruit.</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 is the pressur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 is the volum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 is the number of molecules of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 is the gas constant (fixed val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 is the temperatur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gas law is important to the understanding of how the respiromete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orks</a:t>
            </a: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emperature and pressure are kept constant, then the volume of the gas is directly proportional to the number of molecules of the ga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temperature and volume remain constant, then the pressure of the gas changes in direct proportion to the number of molecules of gas present.</a:t>
            </a: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05:58Z</dcterms:created>
  <dc:creator>Keith or Sherri Holmgren</dc:creator>
  <dc:description/>
  <dc:language>en-US</dc:language>
  <cp:lastModifiedBy>Keith or Sherri Holmgren</cp:lastModifiedBy>
  <dcterms:modified xsi:type="dcterms:W3CDTF">2011-11-13T23:49:53Z</dcterms:modified>
  <cp:revision>8</cp:revision>
  <dc:subject/>
  <dc:title>Cellular Respiration:</dc:title>
</cp:coreProperties>
</file>